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F1A-2A50-4457-8B95-E20C93DC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10C-A3E8-4FAD-A130-5B5C2098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20F-87EA-4B5A-8230-574E9F84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02B-2045-4574-980B-744C6F28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1B5AD-A9CB-4B71-95E9-E4D079F4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72462-E6E3-4855-A36A-234EB7C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C3D38-DDE9-4CCA-9348-8654C651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C5C37-97E5-4957-BDF1-454532A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A85CC-A35A-4B9B-9381-EB94B660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EDCFF-E8BD-4A3B-AFC4-51EDE3A0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4AF61-79E2-4D50-8528-9A8F693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80E-7A70-4341-9BE4-33C222EE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1010E-0D22-4937-961E-4FB1E3C4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7E823-08C0-4D56-A9DF-A169E6F3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C82AA-9F01-40B8-AEBF-FA0DD1C6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C378E-B1D7-4AC0-BF35-EDFBDB66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F915D-B01E-4EBA-BDAA-FFAEA307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9D5-EBE2-447B-9C65-11CF1D2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EAE-177F-4099-B8BC-0817CC23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246-1283-40B7-98B8-EBBFCD42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D61-DA4D-460E-9225-E1BC4D17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845-0EDB-40D2-B808-E1FB443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362-A513-4B25-8C12-BF128D4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861-B2F3-4105-93D8-E674027A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206-3861-46EA-B66B-B2F482D7516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3CB0-14EF-443D-A257-90661E04DCBA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8675640" cy="55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02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惟靠主耶穌的寶血</a:t>
            </a:r>
            <a:r>
              <a:rPr b="1" lang="zh-TW" sz="48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  </a:t>
            </a: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我罪怎能得洗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惟靠主耶穌的寶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我心怎能得完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惟靠主耶穌的寶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寶血當頌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洗我罪免死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此活泉世無雙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惟有主耶穌的寶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57200"/>
            <a:ext cx="8991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的刑罰怎得除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惟靠主耶穌的寶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得救是否靠得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惟靠主耶穌的寶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寶血當頌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洗我罪免死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此活泉世無雙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惟有主耶穌的寶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  <a:ea typeface="標楷體"/>
              </a:rPr>
              <a:t>3. </a:t>
            </a: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我無功勞補罪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惟靠主耶穌的寶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一生言語都有錯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惟靠主耶穌的寶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寶血當頌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洗我罪免死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此活泉世無雙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惟有主耶穌的寶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4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靠主寶血享平安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惟靠主耶穌的寶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洗去困苦並愁煩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惟靠主耶穌的寶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寶血當頌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洗我罪免死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此活泉世無雙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惟有主耶穌的寶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8-04-05T06:29:04Z</dcterms:modified>
  <cp:revision>14</cp:revision>
  <dc:subject/>
  <dc:title>Slide 1</dc:title>
</cp:coreProperties>
</file>